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B76-6808-4100-9731-854F4A3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B08-2050-4980-B5D0-F499329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F4C-668E-4566-BF00-BAD1D32C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997-D5A3-406E-BF5F-92AD4D70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5F8-AD32-4E6C-805F-D1BF26F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2C0-8CE8-4D05-9EFE-D7E848B9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914-2CB6-422F-B98A-2CFFB8D4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FC3-488C-483B-935C-220C6F33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2DF-BE6E-4D14-BB39-B812BBC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CC3-1C5C-422F-837B-F999128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BC8-F32F-4D59-8904-DCA77DA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0ED-CDF6-4EC0-A7D4-ADC219F4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1888-70B2-442B-906F-1436E89F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OLÍV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ne tán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zené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rengeteg különböző hatás érte (Európából, Afrikából vagy Amazóniából) bús, melankolik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ngszerek: furulya, pánsíp, charangó, dob és csörg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ánc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Indián, spanyol és afrikai népek mozdulatai keveredn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Látnivalók - La Pa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ilág legmagasabban fekvő fővár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glesia de San Francisco templ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szorkányok Piaca, ahol bizarr amulettek, varázsitalok, édességek kap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úzeumo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prajzi Múz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useo de Metales Preciosos Precolombinosban pedig a Kolumbusz előtti idők ezüst, arany és rézművészeinek az alkotásait tekinthetjük m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iahuanaco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(Tiwanaku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észeti komple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fontosabb spanyol hódítás előtti váro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 sz. 400-900 között virágzo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kapu és az ún. Földbe süllyesztett templ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Copacabana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önyörű kis falucska a Titicaca-tó partján található. (Titicaca-tó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ilág legmagasabban fekvő, hajózható tava 3815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jdanán a szomszédos Napsziget ősi szentélyéhez érkező zarándokok pihenőhelye vo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sváros ma is zarándokhely (de katolik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yéb látnival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áltozatos táj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tipláno magasföldje az inkáknál is régebbi kultúrák öröksé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ósivatag homokdűn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dok hófödte bérc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azónia párás dzsungele és állatvilá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zeti parkok (Amboró, Beni, Carrasco, Noel Kempff Mercado, Sajama,Eduardo Avar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 ezer turista keresi fel évente, ezek többsége a környező országokbó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fontosabb küldő ország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u, USA, Argentína, Franciaország, Brazília, Németország, Chile, Anglia, Hollan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áció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áció, család- barát látogatás, üzleti út, és konferencia látogat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tlagos tartózkodási idő: 9,4 éjsz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isták 91,5% szervezi egyénileg az útj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idelátogatók 57,9% egyedül utazi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% családosan, és 17,1% csoporto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zmusból befolyt összeg 2004-ben: 187,8 millió USD (összbevétel 7,4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izmusban dolgozók aránya 5,6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llások minősége és azok díja széles skálán moz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összes szálláshely száma 9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ből 181 hotel. A többi közepes és alacsony kategóriájú szállásh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turisták 44% száll meg szállodában, 31,7 % pedig magánszállást vesz igén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uta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rszág 60%-a a létminimum alatt é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ik utaznak: Dél-Amerikai kontinensen belül, Spanyolországba, USA-ba men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utazók száma 300 ezer körül moz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lívia és Magyarország kapcsol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íviába csak a nagy utazási irodák szerveznek utat, azt is általában kérés esetén. Inkább  Dél-Amerikai körutazások ré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ízum nem k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ívia hazánkba akkreditált konzulja Bécsben szé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íviában letelepedett magyar családok száma 1 alig tucatn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ltalános Információk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vatalos elnevezés - Bolíviai Köz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öldrajzi elhelyezkedés: Peru, Paraguay, Argentína, Brazília és Chilével hatá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kosság Bolívia lakosainak 54% indián (kecsua és ajamara), 30% mesztic, 15% fehér és ázsiai, 1 % afroamerik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ülete: Franciaországé és Spanyolországé együttes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1098581 km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zdasági kapcsol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jelentősek, kereskedelmi forgalmuk szeré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vitelünk gazdasági gépekből, állatgyógyszerekből és csokoládéból áll (100 ezer US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ozatal brazildió, jutafonal, ruhanemű (50 ezer US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etemközi együttműködés, több mint 100 bolíviai szerzett diplomát hazánkban. Mára ez megszű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ltalános Információ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vatalos nyelv: spanyol, kecsua, ajm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lások: katolikus (95%), protestáns (5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ivatalos pénz: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 boliviano (B$) = 100 centa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őváros: La 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pesség: 8.152.620 f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psűrűség: 7,4 fő/km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igazgatási beosztás: 9 megy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ltalános Információk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örnyeze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ívia területe öt nagy tájegységre oszthat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gas fennsík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gas hegységek közötti völgyes terül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mazonas mocsaras, őserdős térségé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gas hegységek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átmeneti területre: fagyos hegységek és a forró Amazonas esőerdő közötti átm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Éghajl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öldrajzi különbözőség miatt nincs egységes időjár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zda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587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DP: 2940 USD/f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DP szektorális megoszlása: mezőgazdaság: 14%, ipar 31%, szolgáltatás 5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par: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sványkincsekben gazdag orsz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Arany, cink, ezüst, ónérc, kőolaj, földgá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zdaságának alapja a bányás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fontosabb iparágak: textilgyártás, élelmiszeripar, dohányipar, kézműves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RCOSUR tagja 10 é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zdaság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aktív népesség fele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ezőgazdaság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bó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l (Cukornád, gyapot, kávé, citrusfélé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kisbirtokok, a kisgazdaságok jellemzők,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kistermelők szegények, ezért gazdaságaikat nem tudják fejleszteni, modernizál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Perun kívül az egyetlen ország Bolívia, ah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kokalevél (a Coca-cola alapanyaga) termesztése nem tiltot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z állattenyésztés láma, juh, alpaka, szarvasmarh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zlekedés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 nemzeti légitársaság, a Lloyd Aéreo Boliviano (L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Országon belü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égi közlekedés a legjobb (4 társasá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úthálózat rossz, kevés az aszfaltozott út. (Kocsi, busz, teheraut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 vasúthálózat - rossz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özlekedé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ízi közleke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ívia kb. fele az Amazonas-medencében feks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onason kenukban, motoros csónakok uta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emélyszállítás folyami bárkákon történik, de menetrend nem léte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ltú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nnepek, rendezvény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líviai ünnepek vallási és politikai eseményekhez kapcsolódn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llási ünnepek között felváltva vannak keresztény és indián eredetűek, míg az állami ünnepek többnyire forradalmakhoz vagy csatákhoz kötődn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sztiválok népzenés, néptáncos felvonulásokból állnak evés-ivással egybeköt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9:58:00Z</dcterms:created>
  <dc:creator>Orsi</dc:creator>
  <dc:description/>
  <dc:language>en-US</dc:language>
  <cp:lastModifiedBy>Orsi</cp:lastModifiedBy>
  <dcterms:modified xsi:type="dcterms:W3CDTF">2006-04-26T20:00:25Z</dcterms:modified>
  <cp:revision>36</cp:revision>
  <dc:subject/>
  <dc:title>Bolívia</dc:title>
</cp:coreProperties>
</file>